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C13-7ABA-4328-B835-A0084C644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A8FA-E660-4716-90A0-994665AD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D32-6E2B-485F-8096-1637B2F3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97B2-236A-4690-BEAD-127417996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238462-2BB9-4301-9276-AFF69A01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12C85-11FD-4744-80D6-B1DC48AC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2DFE5-D042-46EC-97C4-84FEA30C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85050-AC03-49B2-BFA2-ECACA580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8693C-9990-4248-842D-26137241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24801-454F-4C6B-8966-206AE84B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7A045-2292-4D55-A528-CDF12919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0F1E-2274-4D62-8130-29E491AD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4FE0B1-F160-4320-9A40-AD734975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E8AECF-59A2-4DAE-8589-0FDFB3F8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D2F9D-9434-4601-B49B-72E28DEC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D478E5-7280-4153-B6B5-643D7598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F5A9B-5E3E-4489-BC63-C32EDB107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901B-0994-4ED9-BB39-0A9ABF42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4BB-ADF4-4F16-AEC4-A596C95E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E776-17FB-46F0-8CAF-EAB12EA5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876-D332-49F9-AEFA-BE047F9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6199-39B7-4C10-A4CD-C58C94B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683-6350-4782-9AC3-00B89CB9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DAC5-0926-463C-9728-620BD960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60AF-F8E5-4AD0-AC1A-40944869C7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FB8A-CE22-4C6A-ACEC-47F7A46389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dc.gov/" TargetMode="External"/><Relationship Id="rId3" Type="http://schemas.openxmlformats.org/officeDocument/2006/relationships/hyperlink" Target="http://www.who.org/" TargetMode="External"/><Relationship Id="rId4" Type="http://schemas.openxmlformats.org/officeDocument/2006/relationships/hyperlink" Target="http://www.webmd.com/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hlamydi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Fatoumata Fofo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lario Sal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ymptom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have no signs or symp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dominal 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back 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us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in during intercour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rning in pen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ransmit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amydia is sexually transmit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s one of the most common sexually transmitted dise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causes Chlamydia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amydia is caused by the bacteria called Chlamydia Trachomatis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mage of Chlamydia Trachomat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120" y="1509840"/>
            <a:ext cx="7619760" cy="38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ost Preval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amydia is most prevalent in the U.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How can Chlamydia be treated or prevented ?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 prevent the consequences of Chlamydia women of the age 25 or younger should get a screening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lamydia can be easily treated with antibiotics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alysis of the diseas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 thing we would do is make sure everyone is being tested for Chlamydia because you never know if you have it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so inform people about how they can treat it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www.cdc.go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www.who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www.webmd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9:38:13Z</dcterms:created>
  <dc:creator>Custom</dc:creator>
  <dc:description/>
  <dc:language>en-US</dc:language>
  <cp:lastModifiedBy>Custom</cp:lastModifiedBy>
  <dcterms:modified xsi:type="dcterms:W3CDTF">2010-03-04T19:26:08Z</dcterms:modified>
  <cp:revision>6</cp:revision>
  <dc:subject/>
  <dc:title>Chlamydia</dc:title>
</cp:coreProperties>
</file>